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10D2-9B81-4567-8FB4-E6D3A13C21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6000    2/1 in 8     3/179kg     4/1.3 billion tonnes     5/ about a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B2AF-9404-4892-96F4-5FACEAC660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 questions and predict the answers first, then read the article to check. Key: 1/ to raise awareness of food waste 2/in homes, cutting beans to fit boxes, throwing away fruit with marks, not packing food well, cancelling or reducing orders etc  3/ making food waste information public  4/putting pressure on supermarkets, asking questions, buying odd shaped fruit and veg, cutting food waste in homes, pledging to reduce wast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493E-3FC2-4B09-87EC-9A179692B1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C64-341D-4B15-90CE-3EA30A36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140-C737-4E8D-A8C0-BFFB9B0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915-BDE1-4314-BC87-5C8EFB67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725-4363-4B52-A9FD-42C8947E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546-5DDC-4CD4-AA8B-75AFBE86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B76-B196-4D49-A61D-BA7E0394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1F8-F8E3-4527-9815-B2CF2270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F2D-CD4B-43DB-B4DF-26C1BC85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716-44A3-4162-ADC3-F4D397DB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3CD-9ADE-4404-9AD1-2914444D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9C2-61E2-4D1E-81EA-5D3A1F5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7B8-731B-48D3-8D57-911F000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3F3E-975C-49D5-9695-6010BB9DDD08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82520" y="1847880"/>
            <a:ext cx="9163080" cy="343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86900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INTERMEDIATE 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127320" y="18900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74600" y="260280"/>
            <a:ext cx="2870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ook through the article to check – 2 minutes only!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3203640" y="3645000"/>
            <a:ext cx="47703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4920" y="126792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1/ Why did volunteers cook and give away 600 meals in Brussel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2/ Name 4 ways in which food is often wast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3/ How are some supermarkets trying to reduce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4/ What can the public do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to help cut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ook Antiqua"/>
              </a:rPr>
              <a:t>Now read again:</a:t>
            </a:r>
            <a:r>
              <a:rPr b="0" lang="en-GB" sz="15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5724360" y="4103640"/>
            <a:ext cx="3143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139680" y="-73080"/>
            <a:ext cx="5559480" cy="286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000" y="2420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Choose one of thes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Find out about this movement and tell others: </a:t>
            </a:r>
            <a:r>
              <a:rPr b="0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Make a poster to tell people about food waste and suggest how we can reduce i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Write to your local supermarket manager to make sugges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5432400" y="333360"/>
            <a:ext cx="351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8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86336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1/ Read the original article: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http://newint.org/features/web-exclusive/2014/04/04/feeding-the-5000-brussels-food-waste/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nd note down all the new/useful words and phrases you find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2/ Choose another Easier English article about food to read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ategory:Foo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52108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108000" y="85680"/>
            <a:ext cx="2519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4-14T20:27:52Z</dcterms:modified>
  <cp:revision>11</cp:revision>
  <dc:subject/>
  <dc:title>How to stop food waste</dc:title>
</cp:coreProperties>
</file>